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99478-1B7E-45C5-82F1-E4E68310B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2FE62-D61B-4101-97F6-926CB06D6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8C801-9052-42DD-A26E-02B78E1FB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07887-0DB1-46C0-A32C-4BCF43102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1D54A-2DB6-4C7F-BFFA-0B4B16F1E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5DFCA-18D8-4035-B74E-79785E749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46CA7-1E71-4B92-BBC6-EE3A34DC8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63767-6F73-4AFB-A8F9-D9DF27AFD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65D9C-915D-4F07-9404-0E9CC525E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A37F2-0A62-4455-A491-621EE9DCC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60D2C-AC76-43AB-8933-9FB0B709E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CA082-EB38-4B7A-ACFC-052284A36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B5589-67DF-47AC-814B-FE005D337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3D8F9-864D-4F15-8FE6-24368D06E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32342-6F2B-417A-A0D8-668B758BA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44C81-7154-4AE4-8587-5C158DF31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7568F-3765-4B0A-BDAD-7264CF56C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357B0-543C-4569-A286-7DC21453E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A79D7-BC17-45BA-A0E1-9C0C95315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13C36-0002-4626-8380-C8E0C9098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D290E-3FCE-43B3-8EC3-0DDA047CF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036C1-107C-4AB4-8D0F-3C6394907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D5C46-612D-43F4-9C2F-13078627C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4CD0F-BCF3-4654-A049-B7078657E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542A0-7269-47DE-B32E-435A1F924B2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86741-DAD3-45D0-B8F7-359970F82CA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0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iz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7593"/>
          <a:stretch/>
        </p:blipFill>
        <p:spPr>
          <a:xfrm>
            <a:off x="3456000" y="0"/>
            <a:ext cx="568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v 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vent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6322"/>
          <a:stretch/>
        </p:blipFill>
        <p:spPr>
          <a:xfrm>
            <a:off x="914400" y="1447920"/>
            <a:ext cx="7315200" cy="53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and Interna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- datagrams or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station and network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tion requests logical connection (virtual circui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packets identified as belonging to that connection &amp; sequentially numb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delivers packets in sequ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virtual circuit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X.2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virtual circuit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handled independent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datagram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datagram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dicated route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handles each packet separ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packets for the same external virtual circuit may take different internal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buffers at destination node for re-ord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treated independently by both network and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does not see any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sends one packe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ts up logical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04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11118"/>
          <a:stretch/>
        </p:blipFill>
        <p:spPr>
          <a:xfrm>
            <a:off x="3292560" y="0"/>
            <a:ext cx="5851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828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6920"/>
          <a:stretch/>
        </p:blipFill>
        <p:spPr>
          <a:xfrm>
            <a:off x="3576600" y="0"/>
            <a:ext cx="5567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, crucial aspect of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rec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i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ma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Criter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selection of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st c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Stallings appendix 10A for 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switching designed for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s dedicated to a particular c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ch of the time a data connection is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th ends must operate at the same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sting of Rou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25468"/>
          <a:stretch/>
        </p:blipFill>
        <p:spPr>
          <a:xfrm>
            <a:off x="914400" y="1447920"/>
            <a:ext cx="7086600" cy="52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cision Time and Pl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or virtual circuit ba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de by each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Information Source and Update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usually based on knowledge of network (not alway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use local 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ll nodes on a potential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 info from 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is network info held by nodes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- never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aptive - regular upd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Strate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permanent route for each source to destination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routes using a least cost algorithm (appendix 10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fixed, at least until a change in network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b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7485"/>
          <a:stretch/>
        </p:blipFill>
        <p:spPr>
          <a:xfrm>
            <a:off x="3965400" y="0"/>
            <a:ext cx="51786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ent by node to every neighb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ming packets retransmitted on every link except incoming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tually a number of copies will arrive at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is uniquely numbered so duplicates can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can remember packets already forwarded to keep network load in bou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include a hop count in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8162"/>
          <a:stretch/>
        </p:blipFill>
        <p:spPr>
          <a:xfrm>
            <a:off x="4341960" y="0"/>
            <a:ext cx="4802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perties of 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possible routes are t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packet will have taken minimum hop count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used to set up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nodes ar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ful to distribute information (e.g. rout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ndom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selects one outgoing path for retransmission of incoming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on can be random or 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elect outgoing path based on probability calc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is typically not least cost nor 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in smal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1000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messages split into series of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acket contains a portion of user data plus some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(addressing)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received, stored briefly (buffered) and past on to the next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ore and 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almost all packet switching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change as conditions on the network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l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info about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isions more co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eoff between quality of network info an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cting too quickly can cause oscil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o slowly to be releva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 - 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id congestion control (See chapter 1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realize theoretical benef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ass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information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(isol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 to outgoing link with shortest que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include bias for each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rely used - do not make use of easily available inf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olated 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19396"/>
          <a:stretch/>
        </p:blipFill>
        <p:spPr>
          <a:xfrm>
            <a:off x="609480" y="1487520"/>
            <a:ext cx="784872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6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adap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d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llman-Ford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exchanges delay vector with neighb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 routing table based on incom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n't consider line speed, just queu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length not a good measurement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ds slowly to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measured di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ijkstra’s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under light and medium lo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little correlation between reported delays and those experienc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st calculations chang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average delay over last 10 seco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ize based on current value and previous res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host and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most universal on packet switched networks and packet switching i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three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attached station and link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erminal equipment DTE (user equip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ircuit terminating equipment DCE (nod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physical layer specification X.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transfer across physical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of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Lin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tocol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36479"/>
          <a:stretch/>
        </p:blipFill>
        <p:spPr>
          <a:xfrm>
            <a:off x="457200" y="2147760"/>
            <a:ext cx="807732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s (virtual circuits) between subscri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Use of Virtual Circu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6433"/>
          <a:stretch/>
        </p:blipFill>
        <p:spPr>
          <a:xfrm>
            <a:off x="990720" y="1371600"/>
            <a:ext cx="6933960" cy="54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ally establis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network assigned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al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350"/>
          <a:stretch/>
        </p:blipFill>
        <p:spPr>
          <a:xfrm>
            <a:off x="3556080" y="0"/>
            <a:ext cx="5587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6941"/>
          <a:stretch/>
        </p:blipFill>
        <p:spPr>
          <a:xfrm>
            <a:off x="457200" y="1371600"/>
            <a:ext cx="815328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can establish 4095 simultaneous virtual circuits with other DTEs over a single DTC-DCE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ontain 12 bit virtual circui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Numbe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5415"/>
          <a:stretch/>
        </p:blipFill>
        <p:spPr>
          <a:xfrm>
            <a:off x="1676520" y="1371600"/>
            <a:ext cx="579096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and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S (Chapter 7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equ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te packet sequ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longer blocks of data across network with smaller packet size without loss of block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 bit 1, D bit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or more A followed by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et and Restar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initialize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s set to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in transit l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higher level protocol to recover lost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ggered by loss of packet, sequence number error, congestion, loss of network internal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quivalent to a clear request on all virtual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mporary loss of network a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effici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node to node link can be shared by many packets ov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queued and transmitted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con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o the local node at its ow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buffer data if required to equalize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accepted even when network is bus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may slow d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 Chapter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.25 info from 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 from C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Techniq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breaks long message into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sent one at a time to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handled in two w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treated independ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an take any practical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go mi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receiver to re-order packets and recover from miss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planned route established before any packets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request and call accept packets establish connection (handsh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contains a virtual circuit identifier instead of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outing decisions required for each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ear request to drop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dedicat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s v 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can provide sequencing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are forwarded more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routing decisions to m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ss of a node looses all circuits through that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all setup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if few pack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ing can be used to avoid congested parts of the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1T17:14:53Z</dcterms:created>
  <dc:creator>Adrian J Pullin</dc:creator>
  <dc:description/>
  <dc:language>en-US</dc:language>
  <cp:lastModifiedBy>Adrian J Pullin</cp:lastModifiedBy>
  <dcterms:modified xsi:type="dcterms:W3CDTF">1999-10-28T17:58:32Z</dcterms:modified>
  <cp:revision>37</cp:revision>
  <dc:subject/>
  <dc:title>William Stallings Data and Computer Communications</dc:title>
</cp:coreProperties>
</file>